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7AB-F681-4400-9888-D611B2FC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594-4C8E-4BC2-8618-80C15258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682-A3B5-4CBF-B27E-C798BF0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298-2CA0-4060-B86B-8DB15EDE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EEF-661A-4E8C-BDE8-F3D2EDE5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C38-C474-450E-AC9D-24A2356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444-6A6F-43C5-9951-AD03102A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9B7-EB8C-4F2D-B282-291F6F3F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ED5-76AD-421F-A23A-DA66BE7B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C5F-7F86-4393-902E-D667D2A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79C-8B5B-4E97-869A-D0FD80B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03C-2D41-4D17-BB89-5329375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plicate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F54-4616-415E-8A50-78C00C5A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43000"/>
            <a:ext cx="9144000" cy="33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ffffff"/>
                </a:solidFill>
                <a:latin typeface="Times New Roman"/>
              </a:rPr>
              <a:t>Heippa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kaikille! Kutsun kaikki tuttavani ja </a:t>
            </a:r>
            <a:r>
              <a:rPr b="0" lang="fi-FI" sz="5400" spc="-1" strike="noStrike">
                <a:solidFill>
                  <a:srgbClr val="ffffff"/>
                </a:solidFill>
                <a:latin typeface="Times New Roman"/>
              </a:rPr>
              <a:t>ystäväni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grillijuhliini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ieni varoitus: tarjoilut ovat aika simppelit, joten jos mahdollista, tuokaa mukananne jotakin purtavaa ja juotav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hiltspa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40960" y="38088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uhlien jälkeen on mahdollisuus hierontaa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ldhilton6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8920" y="45720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ouduin hiukan improvisoimaan valaistusta. Se ei vielä ole ihan valm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ilton_Sunset%2520grill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9a-Night_Spa_shot_300dpi" descr=""/>
          <p:cNvPicPr/>
          <p:nvPr/>
        </p:nvPicPr>
        <p:blipFill>
          <a:blip r:embed="rId1"/>
          <a:stretch/>
        </p:blipFill>
        <p:spPr>
          <a:xfrm>
            <a:off x="1714680" y="1289160"/>
            <a:ext cx="57150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irl_at_sunset_with_stingrays_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4292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05520" y="1981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lastustarvikk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öytyvät  punkan a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7k-Sunset_Water_Villa_Sofa_Couple_III-300dpi" descr=""/>
          <p:cNvPicPr/>
          <p:nvPr/>
        </p:nvPicPr>
        <p:blipFill>
          <a:blip r:embed="rId1"/>
          <a:stretch/>
        </p:blipFill>
        <p:spPr>
          <a:xfrm>
            <a:off x="2425680" y="571680"/>
            <a:ext cx="429264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1371600"/>
            <a:ext cx="207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delmiä ja samppakaljaa voi nauttia myös aamulla, päivällä, illalla ja vaikkapa yöllä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143000"/>
            <a:ext cx="830592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lkaa hyvä 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lmoittakaa ajoissa tulostan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838080"/>
            <a:ext cx="87631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uljetus ei ole mikään onge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len vuokrannut veneen kuljetusta vart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1355760"/>
            <a:ext cx="5867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76212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uljetuksen saamisessa satamaan oli hiukan ongelmia, mutta löytyihän se bussi lopult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ldhilt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08600" y="45720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JAINTI: TYYNI VALTAM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VIERASM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477120" y="2971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76760" y="32767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5715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0480" y="56386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MA MÖKKI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04489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8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18718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952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14609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48400" cy="4330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27120" y="76212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ussin sisätila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21479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5720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28119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800680" cy="458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64440" y="4114800"/>
            <a:ext cx="53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tkan aikana voimme katsella leff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038480" y="2133360"/>
            <a:ext cx="22860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380880"/>
            <a:ext cx="89917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o niin, typerykse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latkaapa takais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odellisuuteen ja menkää töihinne!!!</a:t>
            </a:r>
            <a:r>
              <a:rPr b="0" lang="en-US" sz="6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ilton_veduta_aerea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350040" cy="466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4572000"/>
            <a:ext cx="4797720" cy="1554120"/>
          </a:xfrm>
          <a:prstGeom prst="rect">
            <a:avLst/>
          </a:prstGeom>
          <a:solidFill>
            <a:srgbClr val="49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SAARI JOSSA PIDÄN GRILLIJUH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VALMISTUI VIIME HETKILLÄ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(VIERASMAJOJEN VIERESSÄ EI OLLUT KOVIN PALJOA TILAA, JOTEN MAJANI RAKENNETTIIN TÄNNE. TOIVON, ETTÄ YMMÄRRÄT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81280" y="43430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81880" y="2297160"/>
            <a:ext cx="2244240" cy="307080"/>
          </a:xfrm>
          <a:prstGeom prst="rect">
            <a:avLst/>
          </a:prstGeom>
          <a:solidFill>
            <a:srgbClr val="49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BILEIDEN PITOPAIK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dhilton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243828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ME SWEET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TTE ARVAAKAAN KUINKA KIVAA ON, ETTÄ ON JOKU PAIKKA, JOKA ON VAIN SIN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ldhilton1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1219320"/>
            <a:ext cx="85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äkymä vierasmajasta. Toivottavasti pidätt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aldhilton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Hilton_Water_Villa_standard_2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34960" y="586728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piiko teille hedelmät ja samppakalja illaksi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aldhilton5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56720" y="11736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os telkkarista tulee huonoa ohjelma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iin satelliittikaukosäädin on ammeen vieressä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ldHilton7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38160" y="457200"/>
            <a:ext cx="75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os sänky tuntuu epämukavalta, niin saarelta löytyy kyllä riippumattoj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7:00:32Z</dcterms:created>
  <dc:creator>OBrkic</dc:creator>
  <dc:description/>
  <dc:language>en-US</dc:language>
  <cp:lastModifiedBy>Henry Siikander</cp:lastModifiedBy>
  <dcterms:modified xsi:type="dcterms:W3CDTF">2003-10-13T07:29:20Z</dcterms:modified>
  <cp:revision>18</cp:revision>
  <dc:subject/>
  <dc:title>No Slide Title</dc:title>
</cp:coreProperties>
</file>